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48E-81BD-4A66-9AB8-8EBDB054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7C9-5A6C-4B20-86F1-0C78C8DD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9D8-9D5B-4B25-A830-84EC2EE9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AFE-ABC2-4374-9BFF-299F9C36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2A26-2CE2-40B3-A9B7-FF4E6308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0C15-AADB-488E-9AF7-BF0EC3B4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0810-1ED1-4C53-9EE5-C8675121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2507-FA17-473B-826B-48D7A2D4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EB5D-BBE6-48EA-B45B-F23745AD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ABA8-7184-4DCD-97F8-46E3A3E7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A47B-4656-4ABE-B51B-8691E6D5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4740-DE5D-4A6D-842C-77B9F0B6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78BA-95D0-4795-A7EB-49D4EED8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4FED-79B4-4AED-83CF-D596054B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A679-E1BC-48F0-B0B1-F7473E65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C54E-4174-42F4-B661-18138673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2749-3B1C-446B-A529-02021303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D08FD-708F-4EF0-8DE0-F66A491B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29E0-F00F-4671-9EE8-032E32A2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854C5-0A10-4CB3-8C84-09F982EB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507C-7D3A-4286-8FCF-E62473F8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5E23-F22A-4661-840E-DE1EC94B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3AD-1CF0-4903-A1AD-8D3F80A8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223A8-758A-4F1A-A766-DFE5C77B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72FEF-627B-42E6-91DA-B57A6F00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EC10-D575-4F94-8E97-33042FAE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0F33-F837-4CF0-8AE0-A375FA34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49226-AFE3-4057-A1D7-03264709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E6005-01F7-4916-8E1D-E2F7D7BC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226C1-5840-4E25-9586-17986C02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D3081-4956-43FF-9E80-143D762F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17ADA-29AF-4BBB-8184-63FEDDB6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B4A57-FC29-448F-83D0-C9D8C72B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4D0-F2F8-44C8-A384-54B86888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23191-8142-40F2-A489-E17D98A9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734BF-C44F-4F87-9C83-137E30F8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0F026-2491-4C06-8219-9D9746EB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C5AD7-0FE9-4133-AABB-ED748CAA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F7AD4-0D25-443C-87A7-2E67C5DB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D7284-EA66-422B-999D-FC9383EB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B49DF-C8E2-4220-9730-33075F06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FB06B-F212-4837-BDC1-6719668A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D13FA-5D15-4E30-AE02-057A383B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ABD61-2B80-40E3-926A-A1ADDE6B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2DA-2DA7-4CC4-842E-AFF51459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6CE46-AB3D-4E8B-AFCA-6B2853CD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C7871-ED79-4821-8B7C-9716B9DC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A492A-E1A4-41F8-A6FA-7786186B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E0A59-AE99-45EC-909F-FB3CCCB1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414A8-B6A7-4465-AF34-B7592B7B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825A7-5098-43F8-9900-722B2989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39951-A980-476F-8058-75DAD34D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0F433-DAEB-48E2-9110-24E40D33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AF044-8591-475A-9BB4-10D3B5F0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F539D-64C1-4D70-86D7-E8BC660E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D2E-D326-4486-B392-1C0D0083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C07F2-16E3-4A24-B54B-DE23D738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FFE20-A55A-49F8-B043-9E1A2703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68121-4B05-4DF5-B5DD-42E3099E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B1FCB-8C94-44DA-875B-B7DA6702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6F2B3-6EF8-42C4-B315-1B53BE47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5D7CF-EC3C-474B-AD39-2A34D8A1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67BBD-0315-412B-AE27-4C383ECD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38848-03D7-4921-A442-A8D6EB94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83CDA-5CB9-44C9-9230-1085F5F3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E3544-67D4-4046-9A31-440C1558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757-1DBC-4A06-BEA3-E53120C7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4098E-5C81-4EF7-A87A-113CA7D4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C8A01-E188-40AF-9E6A-4608E34C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F6B4B-78D0-4BD8-821E-CF9A8585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8B87B-6BBE-4291-8F50-FC37E443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F24CB-910C-4407-809B-61BC5D67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B1B7B-4C76-4459-A5FD-7BDF5E06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1A3C0-E6DC-44F2-A798-2552E719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B65EF-D0DE-4FC4-8268-38CF083B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35F6C-F262-486E-AEA7-24D9A362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73440-01BA-4F38-A9E9-C0964B9F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E97-46A2-4A43-B146-57ED1AFB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130F8-AB16-4918-B690-E1C459E1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B504E-0E02-41A6-AD5A-43D660F0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8206B-DA08-470F-AC88-4F985067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059D4-BABC-4FFC-8282-391B3948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24D5E-FAD7-45F9-B4D0-F819F2A1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9491C-76EB-49BB-A458-A1C9581F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27836-EBBF-4025-BA02-436B4A48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E2B39-B7C1-4734-9D73-6FFDF120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D661F-58A9-4A31-9E1A-ADEA6F41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0D6E9-473C-4EA8-81E5-BC97FB97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89D-069E-4ABA-B4E2-F53D2CE5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38833-AC07-410A-8023-C44BA8BE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79D96-F0C7-4DAB-A76E-C61D2F5C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5E0CB-181B-44C3-B854-42FFB821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156C1-BDA5-441E-BC90-B0C064B5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921F7-2A61-4B13-A09E-CAA4A6EF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853FA-C32B-4415-870D-E04CF4A3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B6911-7610-44A1-BDC3-D42B54CE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D112-6B40-41D0-8D79-020E56D4773F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690A-0DB5-40A9-8CC2-FD84792C37B3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6836-D605-4985-8013-4B534B4893D9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83DD-33DB-465F-961A-7FB750B4FC9A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C511-B0CA-44E2-90B1-AF331D65A126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23CC-23F4-4FA8-87D2-F8E068223531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2321-5771-46A9-A113-840AFE0E7487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B720-BC6B-4915-BFE2-DFE929EA5FC9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39720" y="1749600"/>
            <a:ext cx="7997760" cy="1639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40080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4646"/>
                </a:solidFill>
                <a:latin typeface="Lucida Sans Unicode"/>
              </a:rPr>
              <a:t>中国音乐学院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XXXX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46836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项目概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3"/>
          <p:cNvSpPr/>
          <p:nvPr/>
        </p:nvSpPr>
        <p:spPr>
          <a:xfrm>
            <a:off x="46836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现状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"/>
          <p:cNvSpPr/>
          <p:nvPr/>
        </p:nvSpPr>
        <p:spPr>
          <a:xfrm>
            <a:off x="48096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项目必要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48096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项目建设方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80600" y="1699920"/>
            <a:ext cx="8363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48096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项目进度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48096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项目预算清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48096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预期项目绩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11T07:13:52Z</dcterms:created>
  <dc:creator>NetCentral</dc:creator>
  <dc:description/>
  <dc:language>en-US</dc:language>
  <cp:lastModifiedBy>NetCentral</cp:lastModifiedBy>
  <dcterms:modified xsi:type="dcterms:W3CDTF">2019-07-11T07:31:19Z</dcterms:modified>
  <cp:revision>3</cp:revision>
  <dc:subject/>
  <dc:title>XX项目汇报</dc:title>
</cp:coreProperties>
</file>